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A90-90B1-47AF-9EAF-2CDF6F75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68D-4DDB-4761-B9FD-EE933D5D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667-3CBA-4CF4-8DB9-8BCC4A1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DD-BBC3-46FB-B853-CE68761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C6D-6764-4723-A6F2-EA1EFFD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8C6-5502-43AC-809F-2EC020A9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D5D-F0EA-4220-B9ED-6547B14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843-DB04-4B0D-989C-541218F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419-2664-4ADB-91A0-D968367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82-5AF9-4A44-81B8-0F5487F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BBB-2FDD-4906-B6A1-3E1282D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9D3-470E-4256-B349-F7E580C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C8B6D-EA55-4363-9039-B9BA745C9B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43C0C-E9B2-4C73-9B12-08A0F2261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, but not L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 Clou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 surrounding the nucleus of an atom where electrons are most likely to be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lectron Cloud.jpg"/>
          <p:cNvPicPr/>
          <p:nvPr/>
        </p:nvPicPr>
        <p:blipFill>
          <a:blip r:embed="rId1"/>
          <a:stretch/>
        </p:blipFill>
        <p:spPr>
          <a:xfrm>
            <a:off x="2690640" y="3135240"/>
            <a:ext cx="37371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atter is made up of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Periodic Table.gif"/>
          <p:cNvPicPr/>
          <p:nvPr/>
        </p:nvPicPr>
        <p:blipFill>
          <a:blip r:embed="rId1"/>
          <a:stretch/>
        </p:blipFill>
        <p:spPr>
          <a:xfrm>
            <a:off x="2346480" y="2786040"/>
            <a:ext cx="43066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made of atoms of only one k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Gold Bar.jpg"/>
          <p:cNvPicPr/>
          <p:nvPr/>
        </p:nvPicPr>
        <p:blipFill>
          <a:blip r:embed="rId1"/>
          <a:stretch/>
        </p:blipFill>
        <p:spPr>
          <a:xfrm>
            <a:off x="3176640" y="4600440"/>
            <a:ext cx="301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loud Callout 6"/>
          <p:cNvSpPr/>
          <p:nvPr/>
        </p:nvSpPr>
        <p:spPr>
          <a:xfrm>
            <a:off x="4791240" y="3290760"/>
            <a:ext cx="2633400" cy="2190960"/>
          </a:xfrm>
          <a:prstGeom prst="cloudCallout">
            <a:avLst>
              <a:gd name="adj1" fmla="val -61157"/>
              <a:gd name="adj2" fmla="val 3942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lton’s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ter is made up of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oms cannot be divided into smaller pie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toms of an element are exactly a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elements are made of different kinds of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old Ball.jpg"/>
          <p:cNvPicPr/>
          <p:nvPr/>
        </p:nvPicPr>
        <p:blipFill>
          <a:blip r:embed="rId1"/>
          <a:stretch/>
        </p:blipFill>
        <p:spPr>
          <a:xfrm>
            <a:off x="5427720" y="3654360"/>
            <a:ext cx="125892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ohn Dalton.jpg"/>
          <p:cNvPicPr/>
          <p:nvPr/>
        </p:nvPicPr>
        <p:blipFill>
          <a:blip r:embed="rId2"/>
          <a:stretch/>
        </p:blipFill>
        <p:spPr>
          <a:xfrm>
            <a:off x="2817720" y="4737240"/>
            <a:ext cx="16099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okes’ C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William Crookes.JPG"/>
          <p:cNvPicPr/>
          <p:nvPr/>
        </p:nvPicPr>
        <p:blipFill>
          <a:blip r:embed="rId1"/>
          <a:srcRect l="-79556" t="0" r="-795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05520" y="61261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050840" y="2030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am of L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291000" y="20304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ged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.J. Thom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JJ Thomson.jpg"/>
          <p:cNvPicPr/>
          <p:nvPr/>
        </p:nvPicPr>
        <p:blipFill>
          <a:blip r:embed="rId1"/>
          <a:srcRect l="0" t="-1050" r="0" b="-105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ly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rpri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that particles smaller than the atom do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063880" y="61261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homson Model.png"/>
          <p:cNvPicPr/>
          <p:nvPr/>
        </p:nvPicPr>
        <p:blipFill>
          <a:blip r:embed="rId2"/>
          <a:stretch/>
        </p:blipFill>
        <p:spPr>
          <a:xfrm>
            <a:off x="5851440" y="4673520"/>
            <a:ext cx="1860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ly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nse center of positive charge in the center of an at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4" descr="Ernest Rutherford.jpg"/>
          <p:cNvPicPr/>
          <p:nvPr/>
        </p:nvPicPr>
        <p:blipFill>
          <a:blip r:embed="rId1"/>
          <a:srcRect l="-12506" t="0" r="-12506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102000" y="613404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s 12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Rutherford's Atomic Model.jpg"/>
          <p:cNvPicPr/>
          <p:nvPr/>
        </p:nvPicPr>
        <p:blipFill>
          <a:blip r:embed="rId2"/>
          <a:stretch/>
        </p:blipFill>
        <p:spPr>
          <a:xfrm>
            <a:off x="1562040" y="4471920"/>
            <a:ext cx="2006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one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tom’s electrons have almost no mas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Rutherford’s model, the atom was only made up of protons and electron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the mass of most atoms is at least twice as great as the mass of its proton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then does the extra mass come from?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years lat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discovered what other particle that accounted for the additional m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Atom.png"/>
          <p:cNvPicPr/>
          <p:nvPr/>
        </p:nvPicPr>
        <p:blipFill>
          <a:blip r:embed="rId1"/>
          <a:stretch/>
        </p:blipFill>
        <p:spPr>
          <a:xfrm>
            <a:off x="2727360" y="2612880"/>
            <a:ext cx="3903480" cy="3513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1547640" y="621180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utron: Electrically-neutral particle that has the same mas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n and is found in an atom’s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0:09:17Z</dcterms:created>
  <dc:creator>Cleophis Carson</dc:creator>
  <dc:description/>
  <dc:language>en-US</dc:language>
  <cp:lastModifiedBy>Cleophis Carson</cp:lastModifiedBy>
  <dcterms:modified xsi:type="dcterms:W3CDTF">2011-09-05T15:52:49Z</dcterms:modified>
  <cp:revision>2</cp:revision>
  <dc:subject/>
  <dc:title>Models of the Atom</dc:title>
</cp:coreProperties>
</file>